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C08-74D2-4DCB-A248-6DC29B6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764-2786-43F0-B375-C105A6F4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963E-0AEF-4899-89AE-95A0740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CB315-4C56-45AF-BA68-2E5FFAE2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8B1C4-49F2-47D0-9EA7-A6A77253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04695-C603-4D2E-96AB-40B9D3A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C0E36-CB14-4F3D-9232-4ADFA8D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2EB39-61DF-404E-A396-FC37F4E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94C65-6DA8-4D8C-B832-DC35800B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3AF08-33DF-4843-8908-6C7CDCF7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BB29D-5239-480C-8B6A-BAA21B8C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B49AB-711D-4EE8-9AA9-D54F2204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D70-4192-426A-8C70-F52D532F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D6269-963A-4852-9B52-6281429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404CD-92CE-49C7-8E21-2472EE5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F77A-716A-460F-9137-827629D7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20462-6249-4AED-ADA1-DF8BA2C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4BA5C-5FF8-4D92-88EA-7C05374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D7B6-F87B-4FD1-AB6C-72D82C3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A1005-7638-4256-995A-52F8B3A8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C63A-7D87-4032-93BB-A570DFD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17F12-0149-42BF-879E-3AB7D8F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96B1D-E530-4A5D-8F7A-433B57D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F43-D38C-44F8-9F11-D008EF2C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CFE70-1BF7-46EC-931C-F04C787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835E8-728D-4DE9-81DE-4EA5E966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E5516-3934-43A8-97B6-7C0CEB1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FBB8F-3F7B-49E1-A927-B6AC7B0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41660-6659-4E1F-A1D8-F061C0DD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02023-371F-45E6-89BF-39D03C89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2CC9-4B85-4A32-8576-9E0B2B4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0EB5F-198E-4219-8626-0142003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8DB5F-B507-43D2-BFEA-A1378DB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B3DB-AC0E-469A-BAF2-6778635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EE1-E772-4700-B909-E9FF0ACE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E414-F475-4118-BCA3-6E45B6F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457A7-F328-4CF0-9933-727E0454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7FC6D-B6DA-4692-9F1A-B8616360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FE086-BEFC-4B12-A093-CC313E2F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D295D-CDCC-494C-9A7F-EE2D29EC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660FA-209F-478E-9D63-6844431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B8180-7168-45B5-A43B-56868729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1DC3A-8C36-47CD-9A17-00EB86F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8F541-7E2C-489B-B553-7CC7E52F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1613-40E0-4C1C-8CD6-0D67A18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481D-7D31-4EB3-B557-2EC84C0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D095A-8C56-41B7-B5DE-11C9438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E939A-E7EA-4763-BAC3-6AB186A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2185-1D4B-4F96-936A-014A101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82511-0B8E-4419-9767-331BA8AC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0D892-A937-426C-B9B1-F58248E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8E9-7F55-457C-8E1D-033D47B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D809-7F13-425B-9E32-09FE08A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0CE-0E09-4C34-A29E-0975E6A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3359-4359-47D8-A67E-ABEDB859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0B3-B4BF-4920-B40D-F22FC6F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4FD-D2ED-4FFA-A3B3-CB69A07C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16E0-C638-432F-ABD0-7E266DD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4808-05BE-45B8-8652-3DABC67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A11-9385-45AB-8B9A-7E593367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BA2F-E708-4ED0-A782-B2F41E07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7EFA-9E4E-4D7A-85D4-F189CC5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25E4-7FBB-4BB3-8597-811D9A17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2B48-47D4-42D3-AA72-EB77AB8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9298-70BD-4077-A999-C5DDA209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E0A0-E83B-4CE9-9FF8-98DE9A74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45EF-8A04-4715-AEB6-1701E7D6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C2D-C39B-48F6-AEE4-A74D0DD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ECBF-9DC0-42BB-8C17-02CC539B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43CC-0AE7-4664-BDD2-DB83043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21C3-E54F-4FE7-BC48-0D05D1BD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5E5B-6EB0-4ACF-9B43-4DA1F5C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24FA-55D2-4C0F-BE45-BBBE61C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B1818-1886-4D17-AB57-DA40547A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DFAE-7F75-44BC-8E03-AFD8E045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EA77-5755-495E-A58D-0912041F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CFB1-60D3-45D3-8698-043AE2D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BBA0-219E-4820-952B-32B877F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BB3-8C48-4D4D-9190-6FE1AFA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529C-DE18-4C21-8C02-8F3A829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6E4C-1D5F-4F2A-BE4F-258DD40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F8F8-C8E5-42E6-9824-99FBB9A5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B248-E2A4-4953-B386-BE3D257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40426-6FF5-48C0-92C7-F9A21A6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5D28-220C-47F8-960C-07B399C7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864F-FBC5-4800-A374-AD5F29DB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BF75-D580-464A-8A85-8B675668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7086-6F00-4D41-A223-06D94DBA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A0993-1EAC-4918-A1DA-35DB930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181-3D5A-4C02-90B7-78E86E86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C96E-9DE5-4129-B22D-58E6119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0DCE-1C53-435A-9521-7E3CDC7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03F3-B403-4F15-BE3E-BA1A399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3CC5-0578-4218-8403-9E59F77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C52C-0FF2-4870-ACBD-86DF5F99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9AEE-7FA6-4A37-B63E-04066E5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A50BC-4A35-43AA-8795-85DD11D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C3583-3E5E-4D07-81D0-D9A3647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13AF9-9E0F-434B-B824-38A0830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1609E-DC55-47AB-993A-2FBF3530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D24-25FA-4CF2-8803-558184D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2B4D6-1345-4D4E-BF16-7714A039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81E69-E7B5-432B-86E2-098B1432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AFCB6-DC1F-4953-A498-72C20FE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1345-455A-4101-93D8-9AAF4EE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AEFB-608F-4985-8973-C1413D4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C7D9-26B6-4952-B5E2-2E82CAD7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6D670-8DF7-4C98-ABE6-890F8C9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4E0C-67A4-417C-BBBF-4FAFFB4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F9FA-22AF-4A51-AFAF-CC24975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B7C4-32DF-4A9D-90B8-59AD332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C7A-2452-4085-A434-DDDB9FA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7204-B4ED-4D96-9F8A-564EC8E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A8CB-328C-42C3-B3A0-28FF17C5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33DC-C8E7-47B8-9976-DF432D5C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3E92-58D9-4215-89E0-7CE9AE0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B954-058C-4FF8-80A2-9645180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6986-6CE5-4A7D-8857-87C0D759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D334D-1534-4D32-9F61-691A7AB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D040-3B8B-4962-B9CA-BCE569EC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F8858-51B8-4C32-B35C-1D6F938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0450C-4582-4CC4-ACA3-B40F9F2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A39-970C-4E54-AD97-ECEEF32D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069D-3BF4-4D46-BD92-96BB8DE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3556-79D1-4689-8844-CBF3F84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0F55-2C85-4CEE-B14D-6E4060A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5F18-42C7-4C38-9449-96D23C32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1951-C8A8-4E83-9F0C-2EC64347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7F5D-D3E1-4B97-84AE-1C98C9F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F995-01C2-4179-8086-DF76926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F3EC-D06E-488F-95EF-F6F97A1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5B83-25BB-448C-A5A7-2AFDBBA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32E56-D342-47A4-A2E9-8CC7BA8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F9D-8FCA-42C6-942D-F1BCDD9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8BBA-477D-44DE-9A34-7FB849B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64C4-39CC-4068-9387-470BF11D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1D35-F844-42A8-8CF6-42CDD07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94566-441E-45CE-B0FE-479A95B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FF68A-3C14-4B77-8B64-3F10334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5EC1A-8EC3-4E77-8939-2BC6512C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64BE-5A09-401C-AF98-B480B22C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EC5CE-7666-4623-BB4C-57E8D272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864D-C205-4C1B-B457-421CDBEC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F368-66B6-4D95-B57F-C84B33B6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CAA7-8C69-4057-B3AF-EE8BF301D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0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0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2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70F1-6E8A-4B88-ACBB-958059F3E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8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8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9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BABC-E252-46D6-A0DC-4E6C4F5A64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6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7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8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9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3C9-4EC0-4F50-9E86-A5FBA31D59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Times New Roman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9C20-5D57-4BFF-AC13-CE3A1D8520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EC0-E0C3-45A8-BA8D-5A4EAC0A80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0EA-188F-4670-B6E8-630AA98D7E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1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1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3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4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4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4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8E28-839A-4B8D-9D86-3CDA09B574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1930-80DF-4A54-BC8A-F66C95DF3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6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7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8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9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0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0A2-3A82-4F5B-9BD0-0F5367FF13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4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5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6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7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F9F9-F30C-4A9C-8B6A-DD2384A1A5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s 2009 by Victor Chia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AFTZ-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2003-B376-4BB9-9D97-E78B417EB0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VictorChiang@yahoo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FEC-C5B3-4B15-865C-1C53A540C8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10920" y="1197000"/>
            <a:ext cx="8064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8800" spc="-1" strike="noStrike">
                <a:solidFill>
                  <a:srgbClr val="ffffff"/>
                </a:solidFill>
                <a:latin typeface="Verdana"/>
                <a:ea typeface="宋体"/>
              </a:rPr>
              <a:t>美</a:t>
            </a: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国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百万投资移民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Verdana"/>
                <a:ea typeface="宋体"/>
              </a:rPr>
              <a:t>地産</a:t>
            </a:r>
            <a:r>
              <a:rPr b="1" lang="en-US" sz="7200" spc="-1" strike="noStrike">
                <a:solidFill>
                  <a:srgbClr val="ffffff"/>
                </a:solidFill>
                <a:latin typeface="Verdana"/>
                <a:ea typeface="宋体"/>
              </a:rPr>
              <a:t>EB5-A</a:t>
            </a:r>
            <a:r>
              <a:rPr b="1" lang="zh-CN" sz="7200" spc="-1" strike="noStrike">
                <a:solidFill>
                  <a:srgbClr val="ffffff"/>
                </a:solidFill>
                <a:latin typeface="Verdana"/>
                <a:ea typeface="宋体"/>
              </a:rPr>
              <a:t>方案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49E-5C71-4D48-A410-23A7B1B887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营運工作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3.1: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每棟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每棟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開發規划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AAE-39DA-42F0-9474-E3CD4BF54E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50,000 (1/4share)        =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3,000                        =$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 $1600 X 12(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月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)           =$ 57,6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規划开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=$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x x $1200 X 12 x 6%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          =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323-6839-46B9-84E5-EC40BC456F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2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营運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1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4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营建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AEC-268F-464D-9DBE-17C42B8D4F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2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   =$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500                          =$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4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  =$  76,8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興建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及其他開支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=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x x $1200 X 12 x 6%          = $ 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x x $1500 x 12 / 4               = $   xx,xxx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6FB-BDD3-4570-8F45-6115395E7B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营運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1: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2: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3: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4: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開發 規划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0C7-AF6E-410F-B10D-E8C1E4A6E0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     =$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5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     =$   96,8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規划开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xxx,xxx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x x $1200 X 12 x 6%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:  x x $1500 x 12 / 4            =  $  xx,xxx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0C2-FBEA-44A5-A181-BD883CE220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4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1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营建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788E-6BE1-4065-A6D7-8ED6FDA3EE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4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7 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=$ 134,4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興建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及其他開支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=$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x x $1200 X 12 x 6%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x x 1500 x 12 / 4                = $   xx,xxx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557-9F31-43E7-BCB5-6AA62DBE42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5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1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開發  規划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42E3-E756-4B1B-B4E4-D490D3183D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5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500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8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=$ 153,6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規划开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= $ xxx,xxx (1/4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200 X 12 x 6%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 4             = $   xx,xx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302-7467-413E-A3DE-7DE86FAF43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2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内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容大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国投资移民法规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国投资移民手續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国投资移民方案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国投资移民配套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国投资移民成果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6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: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2: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3: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4: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营建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1-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单公寓工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7A06-A30B-4EC2-9FC6-B791A4D439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6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0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=$ 192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興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单位公寓及其他開支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=$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= $ xxx,xxx(1/4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200 X 12 x 6%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4             = $   xx,xxx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287F-4F4F-4562-A514-1FB42AC8F3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7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: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工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0032-A827-4C7E-B223-9C3F3D7EBC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7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5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 =$   96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            =$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1200 X 12 x 6% 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4              = $   xx,xxx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1A6-BF9D-43BC-9DAA-BDA91A048C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8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: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工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5A8A-DA89-4C4C-8C59-2EACA12EED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8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( Exit Op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=$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  =$   57,6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             =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200 X 12 x 6%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4               = $   xx,xxx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7C35-8894-4EF9-B588-9E0AEF204C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9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(Exit Optio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: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工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C772-8D43-4001-A8A3-E1E28C3A30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9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( Exit Optio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12                      =$  57,6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               =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200 X 12 x 6% 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4                = $   xx,xxx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5E8-1844-4EC1-82CA-0232C33E84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0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营運工作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( Exit Optio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.1: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投资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2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整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3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管理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棟公寓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每棟月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4: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工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9B1C-A2F6-4C64-B00E-43C8016568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40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.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方案 簡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第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0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年 收支估算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( Exit Optio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A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支出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收購産业投资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                               =$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修整房産预算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户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 500                         =$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全职员工薪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3</a:t>
            </a:r>
            <a:r>
              <a:rPr b="0" lang="zh-CN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位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X $1600 X 12                  =$   57,6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办公室租金等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$ 5,000 X 1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=$   60,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5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開支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                                             =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B.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收入部份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租金收入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X $1200 X 12/4                 = $ xxx,xxx (1/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管理収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200 X 12 x 6%            = $   xx,xx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其他收入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: x x $1500 x 12 /4                 = $   xx,xxx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 by Victor Chia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299A-4835-47F9-A36C-E25771FB63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D7A-BB3A-4992-950A-8931AD19E7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美国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投资移民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法规简介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0FCF-539C-455B-8A94-9AC79CF7FE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美国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投资移民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成果简介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09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B35-4E7A-4467-ABA8-3180B1D2C3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-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4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配套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4.1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房地産經紀公司配合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4.2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房地産贷款公司配合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4.3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房地産营建公司配合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4.4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房地産会計公司配合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971-BE12-4469-ABB4-D81AF2FAFA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5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成果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5.1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擁有美国移民身份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5.2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擁有部份産权抵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5.3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擁有投資出售还本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5.4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擁有投資部份利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4A12-CA41-4339-A1A9-94A8EE7998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本方案由美国九华地産公司擬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内容及估算谨供参攷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詳情请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me Times Group ,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555 Huntington Dr., # 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San Marino, Ca.91108 U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Tel:(626)585-8998 Cell:(626)759-411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E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ea typeface="宋体"/>
                <a:hlinkClick r:id="rId1"/>
              </a:rPr>
              <a:t>VictorChiang@yahoo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sk : Victor Chiang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强偉城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Real Estate Brok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icensed Real Estate Broker (#00980198) un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alifornia Bureau of Real Estate , State of California ,US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56FA-FFFF-41D5-9A62-CCCBE7EEDF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法规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1 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金额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美金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80-120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2 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創造就业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至少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0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位全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3 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正式营運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合法正式营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4 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商业利润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維持公司運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1.5 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两段緑卡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临時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(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年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及永久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(5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年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99C-CAB3-42A7-B369-B827ABA802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1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法规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宋体"/>
              </a:rPr>
              <a:t>詳情洽詢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宋体"/>
              </a:rPr>
              <a:t>移民律师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16B-F491-4712-8F97-5E4908DEC9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美国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投资移民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手續简介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41A-F494-44D5-8EA5-D534B5748C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2.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手續 簡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1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委託律師註册公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2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開設公司银行帳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3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安排公司地址执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4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委託經紀洽購産业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2.5 :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投资人安排整修出租管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E97-A755-43BC-BC93-934F3E1277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2.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美国投资移民手續 簡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6 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人委託律師申办移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7 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人全家赴美簽証約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8 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人抵美親自主持公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9 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向移民局提出正式緑卡認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10 :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投资人全家取得正式緑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Copyrights 2017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i="1" lang="en-US" sz="800" spc="-1" strike="noStrike">
                <a:solidFill>
                  <a:srgbClr val="ffffff"/>
                </a:solidFill>
                <a:latin typeface="Verdana"/>
                <a:ea typeface="宋体"/>
              </a:rPr>
              <a:t>by Home Times Group ,Inc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VictorChiang@yahoo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Rectangle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HTG-EB5-A-00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5260-B693-4795-8CDA-06BE250A3C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美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国投资移民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-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地産投资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EB5-A</a:t>
            </a:r>
            <a:r>
              <a:rPr b="1" lang="zh-CN" sz="3600" spc="-1" strike="noStrike" u="sng">
                <a:solidFill>
                  <a:srgbClr val="ccecff"/>
                </a:solidFill>
                <a:uFillTx/>
                <a:latin typeface="Arial"/>
                <a:ea typeface="宋体"/>
              </a:rPr>
              <a:t>方案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美国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投资移民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Verdana"/>
                <a:ea typeface="宋体"/>
              </a:rPr>
              <a:t>地産方案简介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6:14:19Z</dcterms:created>
  <dc:creator>Sunny</dc:creator>
  <dc:description/>
  <dc:language>en-US</dc:language>
  <cp:lastModifiedBy>Owner</cp:lastModifiedBy>
  <dcterms:modified xsi:type="dcterms:W3CDTF">2016-12-03T15:48:08Z</dcterms:modified>
  <cp:revision>65</cp:revision>
  <dc:subject/>
  <dc:title>Slide 1</dc:title>
</cp:coreProperties>
</file>